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051-3AA7-42F5-B9F5-EA96495A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634-44CA-4C56-9474-4AB7A518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013-601F-43D6-8536-D4134DE1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BB5-76F0-481D-9176-379FF7AF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5BFA-8480-4BF9-8747-DEAC3D04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E6BD-1253-4520-988D-EE40396A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9653-3C97-444E-9000-093C0904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3510-7EAD-4006-9163-FC91EA69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493E-3896-4CDF-9C36-539DC2AD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485E-D347-41D1-A32E-7C276216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AEBD-F06F-4EA0-B5EA-F43B18E9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D2F-5024-4542-B454-33D57A1B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2D45-CD34-435D-A2F9-200A2483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C979-6967-44E4-917D-514ACE8A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34B2-4F96-42DD-B41C-3411823B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FB23-C506-4D78-9F75-46AED086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08B0-9B34-4828-BCDE-81165B36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94E-5769-4290-8050-D5E8ECBA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33B1-C4F5-4B56-ADE1-7E44FE45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7B1-36C4-443A-AE3D-398EF83D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54A-2695-4480-AC0F-92193582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8A14-5711-4691-8732-B5FC2C3F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F7C-0175-4551-B795-47EF2136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8AC-DEFE-4B49-8F88-E90A2076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4316-0409-47A1-9786-D4FF8D320B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4B57-B58C-4553-A47D-C63F323DA6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c.chemie.uni-siegen.de/pci/versuche/pics/exo4.jpg&amp;imgrefurl=http://www.pc.chemie.uni-siegen.de/pci/versuche/english/v41-1.html&amp;h=272&amp;w=368&amp;sz=11&amp;tbnid=s4nAzUik1GUJ:&amp;tbnh=87&amp;tbnw=118&amp;start=1&amp;prev=/images%3Fq%3D%252Bexothermic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09480" y="762120"/>
            <a:ext cx="78487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hermodynam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ign of </a:t>
            </a:r>
            <a:r>
              <a:rPr b="1" lang="en-US" sz="40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H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040360" y="1600200"/>
          <a:ext cx="325440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0360" y="1600200"/>
                    <a:ext cx="325440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80880" y="1828800"/>
          <a:ext cx="8382240" cy="4267080"/>
        </p:xfrm>
        <a:graphic>
          <a:graphicData uri="http://schemas.openxmlformats.org/drawingml/2006/table">
            <a:tbl>
              <a:tblPr/>
              <a:tblGrid>
                <a:gridCol w="1447920"/>
                <a:gridCol w="3429000"/>
                <a:gridCol w="350532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66cc"/>
                          </a:solidFill>
                          <a:latin typeface="Tahoma"/>
                        </a:rPr>
                        <a:t>Exothermic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vors spontaneity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66ccff"/>
                          </a:solidFill>
                          <a:latin typeface="Tahoma"/>
                        </a:rPr>
                        <a:t>Endothermic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es not favor spontaneity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trop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a measure of the amount of disorder in a system (random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t is natural for things to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become more disordere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and takes energy to make things ordered ag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ahoma"/>
              </a:rPr>
              <a:t>rxn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[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]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product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-  [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]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react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lids have </a:t>
            </a:r>
            <a:r>
              <a:rPr b="1" lang="en-US" sz="2800" spc="-1" strike="noStrike">
                <a:solidFill>
                  <a:srgbClr val="91c94d"/>
                </a:solidFill>
                <a:latin typeface="Tahoma"/>
              </a:rPr>
              <a:t>low </a:t>
            </a:r>
            <a:r>
              <a:rPr b="1" lang="en-US" sz="2800" spc="-1" strike="noStrike">
                <a:solidFill>
                  <a:srgbClr val="91c94d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91c94d"/>
                </a:solidFill>
                <a:latin typeface="Tahoma"/>
              </a:rPr>
              <a:t>S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gases have </a:t>
            </a:r>
            <a:r>
              <a:rPr b="1" lang="en-US" sz="2800" spc="-1" strike="noStrike">
                <a:solidFill>
                  <a:srgbClr val="91c94d"/>
                </a:solidFill>
                <a:latin typeface="Tahoma"/>
              </a:rPr>
              <a:t>high </a:t>
            </a:r>
            <a:r>
              <a:rPr b="1" lang="en-US" sz="2800" spc="-1" strike="noStrike">
                <a:solidFill>
                  <a:srgbClr val="91c94d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91c94d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trop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1438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ign of </a:t>
            </a:r>
            <a:r>
              <a:rPr b="1" lang="en-US" sz="40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S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040360" y="1600200"/>
          <a:ext cx="325440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0360" y="1600200"/>
                    <a:ext cx="325440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85800" y="1828800"/>
          <a:ext cx="7772400" cy="4267080"/>
        </p:xfrm>
        <a:graphic>
          <a:graphicData uri="http://schemas.openxmlformats.org/drawingml/2006/table">
            <a:tbl>
              <a:tblPr/>
              <a:tblGrid>
                <a:gridCol w="1371600"/>
                <a:gridCol w="3048120"/>
                <a:gridCol w="3352680"/>
              </a:tblGrid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e disorde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vors spontaneity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e order (less disorder)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es not favor spontaneity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tropy Probl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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ahoma"/>
              </a:rPr>
              <a:t>rxn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 [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]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product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-  [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]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react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4(l)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+  2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2(l)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+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-121.2J/K) +  2(-109.6J/K)  +  191.61J/K  +  4(188.8J/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3657600"/>
            <a:ext cx="7772400" cy="26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c94d"/>
                </a:solidFill>
                <a:latin typeface="Tahoma"/>
              </a:rPr>
              <a:t>NOTE:  Since we know it’s </a:t>
            </a: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Products Minus Reactants</a:t>
            </a:r>
            <a:r>
              <a:rPr b="1" lang="en-US" sz="1800" spc="-1" strike="noStrike">
                <a:solidFill>
                  <a:srgbClr val="91c94d"/>
                </a:solidFill>
                <a:latin typeface="Tahoma"/>
              </a:rPr>
              <a:t>, we’ve already changed the signs of the reacta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 = +606.4 J/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A high positive value would be expected when solids turn to liquids or liquids turn to gas since +</a:t>
            </a:r>
            <a:r>
              <a:rPr b="1" lang="en-US" sz="2400" spc="-1" strike="noStrike">
                <a:solidFill>
                  <a:srgbClr val="91c94d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S means more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THE EFFECT OF THE SIGNS OF </a:t>
            </a:r>
            <a:r>
              <a:rPr b="1" lang="en-US" sz="40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 and </a:t>
            </a:r>
            <a:r>
              <a:rPr b="1" lang="en-US" sz="40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 ON SPONTANEOUS CHANGE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920" y="2222640"/>
          <a:ext cx="8839080" cy="4635360"/>
        </p:xfrm>
        <a:graphic>
          <a:graphicData uri="http://schemas.openxmlformats.org/drawingml/2006/table">
            <a:tbl>
              <a:tblPr/>
              <a:tblGrid>
                <a:gridCol w="1668240"/>
                <a:gridCol w="4002120"/>
                <a:gridCol w="3168720"/>
              </a:tblGrid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1c94d"/>
                          </a:solidFill>
                          <a:latin typeface="Comic Sans MS"/>
                        </a:rPr>
                        <a:t>SIT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1c94d"/>
                          </a:solidFill>
                          <a:latin typeface="Comic Sans MS"/>
                        </a:rPr>
                        <a:t>SIGNS OF   </a:t>
                      </a:r>
                      <a:r>
                        <a:rPr b="1" lang="en-US" sz="1800" spc="-1" strike="noStrike">
                          <a:solidFill>
                            <a:srgbClr val="91c94d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1800" spc="-1" strike="noStrike">
                          <a:solidFill>
                            <a:srgbClr val="91c94d"/>
                          </a:solidFill>
                          <a:latin typeface="Comic Sans MS"/>
                        </a:rPr>
                        <a:t>H   AND   </a:t>
                      </a:r>
                      <a:r>
                        <a:rPr b="1" lang="en-US" sz="1800" spc="-1" strike="noStrike">
                          <a:solidFill>
                            <a:srgbClr val="91c94d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1800" spc="-1" strike="noStrike">
                          <a:solidFill>
                            <a:srgbClr val="91c94d"/>
                          </a:solidFill>
                          <a:latin typeface="Comic Sans MS"/>
                        </a:rPr>
                        <a:t>S</a:t>
                      </a:r>
                      <a:r>
                        <a:rPr b="1" lang="en-US" sz="1800" spc="-1" strike="noStrike">
                          <a:solidFill>
                            <a:srgbClr val="91c94d"/>
                          </a:solidFill>
                          <a:latin typeface="Comic Sans MS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1c94d"/>
                          </a:solidFill>
                          <a:latin typeface="Comic Sans MS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91c94d"/>
                          </a:solidFill>
                          <a:latin typeface="Comic Sans MS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 =  -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= 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cc66"/>
                          </a:solidFill>
                          <a:latin typeface="Comic Sans MS"/>
                        </a:rPr>
                        <a:t>Reaction occ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 = +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= 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cc66"/>
                          </a:solidFill>
                          <a:latin typeface="Comic Sans MS"/>
                        </a:rPr>
                        <a:t>Reaction doesn’t occ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 = +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= +         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 = -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= 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cc66"/>
                          </a:solidFill>
                          <a:latin typeface="Comic Sans MS"/>
                        </a:rPr>
                        <a:t>Consult Gibb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ibbs Free Ener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sign of the value for Gibbs Free Energy tells u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action </a:t>
            </a:r>
            <a:r>
              <a:rPr b="1" lang="en-US" sz="3200" spc="-1" strike="noStrike">
                <a:solidFill>
                  <a:srgbClr val="91c94d"/>
                </a:solidFill>
                <a:latin typeface="Tahoma"/>
              </a:rPr>
              <a:t>is not spontane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action </a:t>
            </a:r>
            <a:r>
              <a:rPr b="1" lang="en-US" sz="3200" spc="-1" strike="noStrike">
                <a:solidFill>
                  <a:srgbClr val="91c94d"/>
                </a:solidFill>
                <a:latin typeface="Tahoma"/>
              </a:rPr>
              <a:t>is spontane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Tahoma"/>
              </a:rPr>
              <a:t>rxn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 [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product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-  [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react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  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  -  T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S     (temp in kelvi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791320"/>
            <a:ext cx="8534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c94d"/>
                </a:solidFill>
                <a:latin typeface="Tahoma"/>
              </a:rPr>
              <a:t>Notice the language “is not spontaneous” and “is spontaneous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c94d"/>
                </a:solidFill>
                <a:latin typeface="Tahoma"/>
              </a:rPr>
              <a:t>                                           </a:t>
            </a:r>
            <a:r>
              <a:rPr b="1" lang="en-US" sz="1800" spc="-1" strike="noStrike">
                <a:solidFill>
                  <a:srgbClr val="91c94d"/>
                </a:solidFill>
                <a:latin typeface="Tahoma"/>
              </a:rPr>
              <a:t>This is definiti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ibbs Free Energy Probl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e:    Pb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+   ½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Tahoma"/>
              </a:rPr>
              <a:t>rx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=  -215 kJ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Tahoma"/>
              </a:rPr>
              <a:t>rxn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=  -0.092 kJ/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 the rxn spontaneou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  =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215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[(298 K) (-0.092kJ/K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  =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188 kJ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es, the rxn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is spontane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gain, it doesn’t just say “favor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220968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1c94d"/>
                </a:solidFill>
                <a:latin typeface="Tahoma"/>
              </a:rPr>
              <a:t>Remember:  This means at “standard”, which for temp, is 25</a:t>
            </a:r>
            <a:r>
              <a:rPr b="0" i="1" lang="en-US" sz="1800" spc="-1" strike="noStrike" baseline="30000">
                <a:solidFill>
                  <a:srgbClr val="91c94d"/>
                </a:solidFill>
                <a:latin typeface="Tahoma"/>
              </a:rPr>
              <a:t>o</a:t>
            </a:r>
            <a:r>
              <a:rPr b="0" i="1" lang="en-US" sz="1800" spc="-1" strike="noStrike">
                <a:solidFill>
                  <a:srgbClr val="91c94d"/>
                </a:solidFill>
                <a:latin typeface="Tahoma"/>
              </a:rPr>
              <a:t>C or 298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486400" y="2895480"/>
            <a:ext cx="14479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ign of </a:t>
            </a:r>
            <a:r>
              <a:rPr b="1" lang="en-US" sz="40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G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040360" y="1600200"/>
          <a:ext cx="325440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0360" y="1600200"/>
                    <a:ext cx="325440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09480" y="1828800"/>
          <a:ext cx="8076960" cy="4267080"/>
        </p:xfrm>
        <a:graphic>
          <a:graphicData uri="http://schemas.openxmlformats.org/drawingml/2006/table">
            <a:tbl>
              <a:tblPr/>
              <a:tblGrid>
                <a:gridCol w="1483560"/>
                <a:gridCol w="659340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ction </a:t>
                      </a:r>
                      <a:r>
                        <a:rPr b="1" i="1" lang="en-US" sz="4000" spc="-1" strike="noStrike">
                          <a:solidFill>
                            <a:srgbClr val="91c94d"/>
                          </a:solidFill>
                          <a:latin typeface="Tahoma"/>
                        </a:rPr>
                        <a:t>Does not Occu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ction </a:t>
                      </a:r>
                      <a:r>
                        <a:rPr b="1" i="1" lang="en-US" sz="4000" spc="-1" strike="noStrike">
                          <a:solidFill>
                            <a:srgbClr val="91c94d"/>
                          </a:solidFill>
                          <a:latin typeface="Tahoma"/>
                        </a:rPr>
                        <a:t>Occur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nd Ener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hange in enthalpy when a chemical rxn occurs is due primarily to the </a:t>
            </a:r>
            <a:r>
              <a:rPr b="1" i="1" lang="en-US" sz="2800" spc="-1" strike="noStrike">
                <a:solidFill>
                  <a:srgbClr val="91c94d"/>
                </a:solidFill>
                <a:latin typeface="Tahoma"/>
              </a:rPr>
              <a:t>energy required to break the chemical bonds in reactant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nd the </a:t>
            </a:r>
            <a:r>
              <a:rPr b="1" i="1" lang="en-US" sz="2800" spc="-1" strike="noStrike">
                <a:solidFill>
                  <a:srgbClr val="ffffcc"/>
                </a:solidFill>
                <a:latin typeface="Tahoma"/>
              </a:rPr>
              <a:t>energy produced by forming the chemical bonds in the product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(breaking of bond = "bond dissociation"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ll bond dissociations are </a:t>
            </a:r>
            <a:r>
              <a:rPr b="1" lang="en-US" sz="2800" spc="-1" strike="noStrike">
                <a:solidFill>
                  <a:srgbClr val="66ccff"/>
                </a:solidFill>
                <a:latin typeface="Tahoma"/>
              </a:rPr>
              <a:t>ENDOthermic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because energy must be supplied to break bonds; therefore, 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all BE's are + val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neral Inform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"Thermodynamics"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is the study of the energy changes or transfers accompanying physical and chemical proces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elps u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dict whether a rxn will occur under certain cond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DO NOT ASSUME THAT ALL REACTIONS HAPPEN AUTOMATICALL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ctions and Bond Ener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BE</a:t>
            </a:r>
            <a:r>
              <a:rPr b="1" i="1" lang="en-US" sz="3200" spc="-1" strike="noStrike" baseline="-25000">
                <a:solidFill>
                  <a:srgbClr val="ffcc66"/>
                </a:solidFill>
                <a:latin typeface="Tahoma"/>
              </a:rPr>
              <a:t>rxn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= [</a:t>
            </a:r>
            <a:r>
              <a:rPr b="1" lang="en-US" sz="3200" spc="-1" strike="noStrike">
                <a:solidFill>
                  <a:srgbClr val="ffcc66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ffcc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BE ]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reactants 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- [</a:t>
            </a:r>
            <a:r>
              <a:rPr b="1" lang="en-US" sz="3200" spc="-1" strike="noStrike">
                <a:solidFill>
                  <a:srgbClr val="ffcc66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ffcc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BE]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produ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sign of the value for Bond Energy are related to enthalpy of formation, so the same information is gi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Factors that Contribute to Bond Strength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1) polarity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a polar bond is stronger than nonpolar - in general, the &gt; the diff in e.n. b/w bonded atoms,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more polar the bond &amp; the &gt; the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2) # of e- pairs b/w bonded atom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multiple bonds have &gt; BE than single b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3) Effects related to sizes of atom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 If nuclei cannot come very close together, shared e- pair will not be effective in bonding them. Far from nucleus bond will be wea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lculate Enthalpy with B.E.’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ahoma"/>
              </a:rPr>
              <a:t>STEP 1 – You must know the B.C.E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2 ClF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Tahoma"/>
              </a:rPr>
              <a:t>3(g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 + 2O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Tahoma"/>
              </a:rPr>
              <a:t>2(g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Cl</a:t>
            </a:r>
            <a:r>
              <a:rPr b="1" lang="en-US" sz="2400" spc="-1" strike="noStrike" baseline="-25000">
                <a:solidFill>
                  <a:srgbClr val="91c94d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O</a:t>
            </a:r>
            <a:r>
              <a:rPr b="1" lang="en-US" sz="2400" spc="-1" strike="noStrike" baseline="-25000">
                <a:solidFill>
                  <a:srgbClr val="91c94d"/>
                </a:solidFill>
                <a:latin typeface="Tahoma"/>
              </a:rPr>
              <a:t>(g)</a:t>
            </a: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  +  3OF</a:t>
            </a:r>
            <a:r>
              <a:rPr b="1" lang="en-US" sz="2400" spc="-1" strike="noStrike" baseline="-25000">
                <a:solidFill>
                  <a:srgbClr val="91c94d"/>
                </a:solidFill>
                <a:latin typeface="Tahoma"/>
              </a:rPr>
              <a:t>2(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66"/>
                </a:solidFill>
                <a:uFillTx/>
                <a:latin typeface="Tahoma"/>
              </a:rPr>
              <a:t>STEP 2 – Draw the molecules involved, with the correct numbers and types of bond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66"/>
                </a:solidFill>
                <a:uFillTx/>
                <a:latin typeface="Tahoma"/>
              </a:rPr>
              <a:t>STEP 3 – Look up Bond Energies for each.  Remember, the BE formula has Reactants before products, not like </a:t>
            </a:r>
            <a:r>
              <a:rPr b="1" lang="en-US" sz="1800" spc="-1" strike="noStrike" u="sng">
                <a:solidFill>
                  <a:srgbClr val="ffcc66"/>
                </a:solidFill>
                <a:uFillTx/>
                <a:latin typeface="Symbol"/>
                <a:ea typeface="Symbol"/>
              </a:rPr>
              <a:t></a:t>
            </a:r>
            <a:r>
              <a:rPr b="1" lang="en-US" sz="1800" spc="-1" strike="noStrike" u="sng">
                <a:solidFill>
                  <a:srgbClr val="ffcc66"/>
                </a:solidFill>
                <a:uFillTx/>
                <a:latin typeface="Tahoma"/>
              </a:rPr>
              <a:t>H, </a:t>
            </a:r>
            <a:r>
              <a:rPr b="1" lang="en-US" sz="1800" spc="-1" strike="noStrike" u="sng">
                <a:solidFill>
                  <a:srgbClr val="ffcc66"/>
                </a:solidFill>
                <a:uFillTx/>
                <a:latin typeface="Symbol"/>
                <a:ea typeface="Symbol"/>
              </a:rPr>
              <a:t></a:t>
            </a:r>
            <a:r>
              <a:rPr b="1" lang="en-US" sz="1800" spc="-1" strike="noStrike" u="sng">
                <a:solidFill>
                  <a:srgbClr val="ffcc66"/>
                </a:solidFill>
                <a:uFillTx/>
                <a:latin typeface="Tahoma"/>
              </a:rPr>
              <a:t>S, </a:t>
            </a:r>
            <a:r>
              <a:rPr b="1" lang="en-US" sz="1800" spc="-1" strike="noStrike" u="sng">
                <a:solidFill>
                  <a:srgbClr val="ffcc66"/>
                </a:solidFill>
                <a:uFillTx/>
                <a:latin typeface="Symbol"/>
                <a:ea typeface="Symbol"/>
              </a:rPr>
              <a:t></a:t>
            </a:r>
            <a:r>
              <a:rPr b="1" lang="en-US" sz="1800" spc="-1" strike="noStrike" u="sng">
                <a:solidFill>
                  <a:srgbClr val="ffcc66"/>
                </a:solidFill>
                <a:uFillTx/>
                <a:latin typeface="Tahoma"/>
              </a:rPr>
              <a:t>G formula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2(3*255)  + 2(498)</a:t>
            </a: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  +  </a:t>
            </a: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2 (-205)  +  3(2*-184)</a:t>
            </a: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=  1012 kJ = </a:t>
            </a:r>
            <a:r>
              <a:rPr b="1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H</a:t>
            </a:r>
            <a:r>
              <a:rPr b="1" i="1" lang="en-US" sz="2400" spc="-1" strike="noStrike" baseline="-25000">
                <a:solidFill>
                  <a:srgbClr val="ffcc66"/>
                </a:solidFill>
                <a:latin typeface="Tahoma"/>
              </a:rPr>
              <a:t>rx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66294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pontane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pontaneou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" - a process can occur (not necessarily fas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n-spontaneou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" - a process cannot occ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neral Inform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4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ny spontaneous rxns release heat energy = "exothermic"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ducts have less E than reactants ("downhill") (see diagra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me rxns absorb energy = "endothermic" = products have more energy than the reactants ("uphill") (see diagram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1676520"/>
            <a:ext cx="2876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95680" y="28951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dothermi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4390920" cy="2904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4172040" cy="2981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5228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otherm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04920"/>
            <a:ext cx="434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E</a:t>
            </a:r>
            <a:r>
              <a:rPr b="1" i="1" lang="en-US" sz="2400" spc="-1" strike="noStrike" baseline="-25000">
                <a:solidFill>
                  <a:srgbClr val="ffcc66"/>
                </a:solidFill>
                <a:latin typeface="Tahoma"/>
              </a:rPr>
              <a:t>a</a:t>
            </a: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 = Activation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114300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= 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1752480"/>
            <a:ext cx="434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 = 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for reverse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2438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 = enthalpy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057400" y="1371600"/>
            <a:ext cx="2819520" cy="685800"/>
          </a:xfrm>
          <a:prstGeom prst="line">
            <a:avLst/>
          </a:prstGeom>
          <a:ln w="38160">
            <a:solidFill>
              <a:srgbClr val="91c9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1828800"/>
            <a:ext cx="152640" cy="457200"/>
          </a:xfrm>
          <a:prstGeom prst="ellipse">
            <a:avLst/>
          </a:prstGeom>
          <a:solidFill>
            <a:srgbClr val="91c94d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62520" y="1981080"/>
            <a:ext cx="8380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1828800"/>
            <a:ext cx="228600" cy="1371600"/>
          </a:xfrm>
          <a:prstGeom prst="ellipse">
            <a:avLst/>
          </a:prstGeom>
          <a:solidFill>
            <a:srgbClr val="ff3300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133720" y="2666880"/>
            <a:ext cx="2666880" cy="763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2286000"/>
            <a:ext cx="152640" cy="914400"/>
          </a:xfrm>
          <a:prstGeom prst="ellipse">
            <a:avLst/>
          </a:prstGeom>
          <a:solidFill>
            <a:srgbClr val="0066ff">
              <a:alpha val="3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neral Inform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t all exothermic rxns are spontaneous; not all spontaneous rxns are exothermic,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so some other factor must influence spontane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ur Laws of Thermodynam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1600200"/>
          <a:ext cx="8153280" cy="4876920"/>
        </p:xfrm>
        <a:graphic>
          <a:graphicData uri="http://schemas.openxmlformats.org/drawingml/2006/table">
            <a:tbl>
              <a:tblPr/>
              <a:tblGrid>
                <a:gridCol w="1676160"/>
                <a:gridCol w="6477120"/>
              </a:tblGrid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eroth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w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T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= T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and T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= T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then T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= T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rs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w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ervation of energ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cond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w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 can't get something from nothing; in fact, you can't even break ev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ird Law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en there is no motion &amp; perfect arrangement,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re is no disorder, such as at absolute ze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thalp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=  heat conten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Tahoma"/>
              </a:rPr>
              <a:t>f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 heat of 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Tahoma"/>
              </a:rPr>
              <a:t>rxn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 heat of reaction (which is the sum of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 the "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" means that conditions are at standard, which for thermodynamics is at 25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 and 101.3 k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ss’ Law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ahoma"/>
              </a:rPr>
              <a:t>rxn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[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ahoma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product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-  [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ahoma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reactant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sult a Thermodynamics chart; b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careful of the units and pha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(s, cr, l, aq, 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e:          2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(g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+      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2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(+90.25kJ/mol)                0                   2(+33.18kJ/mo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(-90.25kJ/mol)                                   +  2(+33.18kJ/mo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180.5kJ/mol                                          +  66.36kJ/mol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=  -114.1kJ/mol  =  </a:t>
            </a:r>
            <a:r>
              <a:rPr b="1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ffcc66"/>
                </a:solidFill>
                <a:latin typeface="Tahoma"/>
              </a:rPr>
              <a:t>H</a:t>
            </a:r>
            <a:r>
              <a:rPr b="1" i="1" lang="en-US" sz="2800" spc="-1" strike="noStrike" baseline="-25000">
                <a:solidFill>
                  <a:srgbClr val="ffcc66"/>
                </a:solidFill>
                <a:latin typeface="Tahoma"/>
              </a:rPr>
              <a:t>rx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61722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c94d"/>
                </a:solidFill>
                <a:latin typeface="Tahoma"/>
              </a:rPr>
              <a:t>And since this is a negative value, it is an EXOTHERMIC REACT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4800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c94d"/>
                </a:solidFill>
                <a:latin typeface="Tahoma"/>
              </a:rPr>
              <a:t>Why is this zer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028840" y="4267080"/>
            <a:ext cx="2286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572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sum of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762120"/>
            <a:ext cx="5331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198108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efficients from the B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514600" y="175212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23:24:10Z</dcterms:created>
  <dc:creator>andreskim</dc:creator>
  <dc:description/>
  <dc:language>en-US</dc:language>
  <cp:lastModifiedBy>jluckey</cp:lastModifiedBy>
  <dcterms:modified xsi:type="dcterms:W3CDTF">2010-04-13T15:14:21Z</dcterms:modified>
  <cp:revision>139</cp:revision>
  <dc:subject/>
  <dc:title>NOTES - PERIODIC TABLE &amp; TRENDS I. CHEMICAL PERIODICITY  "the variation in prop's of elem's w/ their positions in the per. t"</dc:title>
</cp:coreProperties>
</file>